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D0DB-3482-4B8D-88E8-3F65248D826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1B14-0255-4DBB-B386-50974FE3CA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9DE3-06EE-4395-B591-CA2887D95F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E707-C1F8-4518-AEC8-CCBC3D1857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4556-54F0-4294-9658-BF6E5D0401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8C93-780A-400E-A2F3-C4D270BC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346C-C2D6-4B18-88CE-89DF7054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1E9B-3455-47B6-BD20-1EBFF051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31AC-85A7-4284-9471-7954E867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529E-0765-427C-9F23-510C3E60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0C42-9CD6-465A-B042-579DC72A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7BC9-0B27-4237-A02D-1F4CB4A4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3203-FE2A-4E7C-97BC-3DB778BF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AA9B-2C7C-4E62-BBBA-504D2863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D8DF-32EF-44A4-9018-43095ACF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5D7A-5868-4F1C-8E49-98C62CEF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289B-1AE0-4EBC-8884-4CF79C45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878C-D5FC-4EAB-B75C-5F14766E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81D1-54B6-4C1E-A4D7-DCEAD589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7CFF-E7C8-4568-8D34-DEE2A4EB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B58B-BD66-48DE-BCDB-409BA4B9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6B2B-DCA6-409A-9AFE-01B3FDA2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E1F0-C47C-4985-ACF3-1F8B79B4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7B6D-A27C-449F-A497-87E79542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5EF4-8738-4CF0-8F7C-6D529892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103D-FD32-45AB-B77D-2CE0FC45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DB79-AA59-4E58-8412-7706E8F6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35AE-57B5-4B3C-BB50-582DC934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C0EF-EC5E-436C-94E4-07DDEA5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8A73-D005-4216-8972-7EF04C64877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9EF4-3995-437B-970D-80891E37B50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EverMiner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le of EverMiner modules – an example (see also LAQ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mples of EverMiner mod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AQ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66B9-A2BD-4AC3-802D-D47F9F3324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389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75640" y="2136600"/>
            <a:ext cx="1512720" cy="33048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0083"/>
              <a:gd name="adj5" fmla="val 56250"/>
              <a:gd name="adj6" fmla="val -76388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Narrow"/>
              </a:rPr>
              <a:t>EM – moduls 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80360" y="3576600"/>
            <a:ext cx="151272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4870"/>
              <a:gd name="adj5" fmla="val -111537"/>
              <a:gd name="adj6" fmla="val -45541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Narrow"/>
              </a:rPr>
              <a:t>EM – moduls 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4600" y="3720960"/>
            <a:ext cx="1513080" cy="33048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113009"/>
              <a:gd name="adj5" fmla="val -155287"/>
              <a:gd name="adj6" fmla="val 121615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Narrow"/>
              </a:rPr>
              <a:t>EM – moduls 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5046840"/>
            <a:ext cx="208764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0263"/>
              <a:gd name="adj5" fmla="val -346152"/>
              <a:gd name="adj6" fmla="val -57949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nhancement of 4ft</a:t>
            </a:r>
            <a:r>
              <a:rPr b="0" lang="cs-CZ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28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7d"/>
                </a:solidFill>
                <a:latin typeface="Arial"/>
              </a:rPr>
              <a:t>Role of EverMiner module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AQ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6F4C-7992-4B24-8EDC-001368578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54936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amples of EverMiner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t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ft-quantif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oups of attributes – e.g. Age_5, Age_10, Age_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asses  of equi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4ft -,   KL -,  SDKL -,  CF -, SDCF – qua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tial ce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tering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AQ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44EC-572E-4B52-86A7-B2C37FB996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47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verMiner  module „Literal“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8381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75308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611280" y="2421000"/>
          <a:ext cx="57600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421000"/>
                    <a:ext cx="5760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755640" y="436572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365720"/>
            <a:ext cx="24480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e of atribu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mber of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sk we so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419640" y="4565520"/>
            <a:ext cx="1657080" cy="1455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19640" y="4508640"/>
            <a:ext cx="165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W – litera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3080" y="4675320"/>
            <a:ext cx="2448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 of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mal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imal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AQ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D9AD-C43A-43FB-A80D-7A3A1CD424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47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verMiner module „4ft-quantifier “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8381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436572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7672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724280"/>
            <a:ext cx="2448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lved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urren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19640" y="4565520"/>
            <a:ext cx="1657080" cy="145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19640" y="4508640"/>
            <a:ext cx="16556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W – 4ft quant.</a:t>
            </a:r>
            <a:r>
              <a:rPr b="0" lang="cs-CZ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5079960"/>
            <a:ext cx="2448000" cy="47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.95, 4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4373640" cy="2743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924360" y="1413000"/>
            <a:ext cx="5763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AQ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FE00-AD45-48B4-BB93-33DE0B6A37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4760" y="404640"/>
            <a:ext cx="8518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verMiner  module „categories definition“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8381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436572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7672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1341360"/>
          <a:ext cx="570060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570060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95280" y="4292640"/>
            <a:ext cx="24480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mber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quencies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sk we sol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urren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419640" y="4565520"/>
            <a:ext cx="1657080" cy="1455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51640" y="4437000"/>
            <a:ext cx="2447640" cy="16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 of catego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ngth of inter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mber of inter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364000" y="1628640"/>
            <a:ext cx="576360" cy="506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419640" y="4508640"/>
            <a:ext cx="16556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W – Categ. De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AQ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F820-C3DC-4123-9FD2-DE37CB0AD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40:07Z</dcterms:created>
  <dc:creator>Rauch</dc:creator>
  <dc:description/>
  <dc:language>en-US</dc:language>
  <cp:lastModifiedBy>NOBODY</cp:lastModifiedBy>
  <dcterms:modified xsi:type="dcterms:W3CDTF">2008-03-30T16:09:48Z</dcterms:modified>
  <cp:revision>1119</cp:revision>
  <dc:subject/>
  <dc:title>Metody zpracování informací </dc:title>
</cp:coreProperties>
</file>