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76FA-5272-4158-B9E8-51AB1C78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31CC-B388-4CE9-AAD9-C21EAFEA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B350-AF16-4B11-BC05-F3E08487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88FD-77DA-40D5-8636-C0FB1C1D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5D21-FA1E-431A-A3C5-6901BAD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9F23-50A7-4688-9D58-4BCB452B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971-FCC3-45BE-818E-69A8875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44D9-9AAC-478F-A369-3D56B2E0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E190-6792-47A0-B8CF-36CD32C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4AB3-CC46-4455-99CB-D3571174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2FC5-833C-443B-B575-83C53D4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E113-E630-4F81-A03A-D562CF3F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BC47-B735-4B79-BCCA-50CA4F9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10D-CB7A-48CB-A14A-BDCE271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FADC-C8B3-4BF6-91D6-924C999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772D-62E2-4317-9176-E6D10646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C9B-4594-4988-95AB-13F874B8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438A-2F64-4E9C-B6C5-12841F31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7F24-4EC2-46E6-BBC8-7DFAF89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3278-03A8-470C-9BFC-87ADF97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F41A-C0AE-42C8-B310-A098CBE7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42FD-5846-4FCD-ACF7-9A04066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901-2797-4F8D-AA31-43FAAB8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FB3A-5EE3-46EE-9FE1-7C6C7B4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4314-DE17-4AFB-86B1-FCFA7CBFF55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9FD8-FAC7-41E2-8839-19AE11EE160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7d"/>
                </a:solidFill>
                <a:latin typeface="Arial"/>
              </a:rPr>
              <a:t>KnowledgeBase –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ing and maintaining hiearchical groups of meta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ing and maintaining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ormaliz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nowledge on particular attributes to be used in EverMiner and additional modu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ts to categ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ortant  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onable/s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pping Knowledgebase to a particular Me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ing and maintaining mutual influence of metatatrib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6A70-EF39-4AC1-B7DD-7D1182C3EF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Sp-Miner Knowledge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- Storing and maintaining hiearchical groups of meta-attributes</a:t>
            </a:r>
            <a:r>
              <a:rPr b="0" lang="cs-CZ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1294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D0CF-B2AE-4FB0-A10A-B980573D1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9647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Sp-Miner Knowledge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- Storing and maintaining formalized knowledge on particular attribut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619280"/>
            <a:ext cx="5972040" cy="4762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476520" cy="2981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1835280" y="4652640"/>
            <a:ext cx="3457440" cy="1081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A212-A1EF-45B3-BC62-5B7E369EAD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7d"/>
                </a:solidFill>
                <a:latin typeface="Arial"/>
              </a:rPr>
              <a:t>Attribute pattern –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80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e of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 –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– ord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 – 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 – Bool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es of categ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given categories (all of them stored), 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x (F, 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tricts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zech Republic (77 - Bruntál, Děčín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(?) levels of obesity given by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 number of categories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ucation (5 in STULONG, 3 in ADAM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kvidistant (for R only, defined as in DataSource, can be several variants for one attribut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kvifrequency (for R only, defined as in DataSource, can be several variants for one attribu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vals (for R only, defined as in DataSource, can be several variants for one attribu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3370-2CE3-499D-BFCA-73F3F111A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Sp-Miner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nowledge Base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– </a:t>
            </a:r>
            <a:br>
              <a:rPr sz="2800"/>
            </a:b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problems of mapping to a particular Metabase</a:t>
            </a:r>
            <a:r>
              <a:rPr b="0" lang="cs-CZ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1480" y="3328920"/>
            <a:ext cx="581040" cy="200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81480" y="3328920"/>
            <a:ext cx="58104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281480" y="3328920"/>
            <a:ext cx="58104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90840" y="3338640"/>
            <a:ext cx="562320" cy="18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290840" y="3338640"/>
            <a:ext cx="562320" cy="18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290840" y="3338640"/>
            <a:ext cx="562320" cy="18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826920" y="1700280"/>
            <a:ext cx="5545440" cy="3281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3400" y="5057280"/>
            <a:ext cx="78249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eck as much as pos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tegories  for the type of categoriz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ed given categ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initions of missing values will probably not be used in Knowledge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ault: NULL = Mi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DABB-3DAC-49F4-934F-E22BCAF26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ISp-Miner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Knowledge Base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 </a:t>
            </a:r>
            <a:br>
              <a:rPr sz="3200"/>
            </a:b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mutual influence of attribu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1884240"/>
            <a:ext cx="6964200" cy="4005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35280" y="6132600"/>
            <a:ext cx="3673440" cy="6094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f Education increases then Beer consumption de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005360"/>
            <a:ext cx="2954160" cy="609480"/>
          </a:xfr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f Age increases 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MI increase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nowledge ba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9B99-E246-4BF6-B108-8104BDE18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3-30T14:58:25Z</dcterms:modified>
  <cp:revision>981</cp:revision>
  <dc:subject/>
  <dc:title>Metody zpracování informací </dc:title>
</cp:coreProperties>
</file>