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6926-C78D-4EC3-A7C2-D2EFFBCE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65FE-CB72-4A7C-89A0-102654BA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47C3-A116-44C9-BB00-C8DA0329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23CA-5F6E-477C-B826-06DA0ECE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4B51-5881-40E4-8394-96F692C1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2144-D208-420B-A386-9E58571D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02AC-163A-4C38-9B44-376E3C36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0BA1-0C34-4E86-9230-6CD5749E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2E32-6BCD-4F42-9F29-7F007D4E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4D91-9459-4359-B4F1-902407D2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CFCB-06D0-4DB9-9C10-9677DFF6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141F-C562-4EFE-84B1-E4E1D964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7DE7-46F0-43AB-B068-8EFD5B55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F903-479E-42E5-AFC4-0109EB4B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2B87-6BFC-42CA-AE48-6337A847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3969-8FB9-432A-A2AE-C5B5398B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2A2E-8E80-4FCE-A8EC-034EC2B2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EDD6-15FC-4A42-85F7-A6986342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0392-9AF6-4C74-9C31-7D929B03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9803-E53B-4E59-BD02-6806A3B3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572C-8AEE-4780-AD21-B4BAE169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411C-63D5-4483-B156-0CF5022E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71E3-EC1B-491F-88FD-AA7DEC1D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96B6-AF6E-4EB7-AA33-AF95E0A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46DA-5B48-491C-A9AB-BA37EA02949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276D-DD68-495B-80C3-19088211011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iconference.org/iicai07/" TargetMode="External"/><Relationship Id="rId3" Type="http://schemas.openxmlformats.org/officeDocument/2006/relationships/hyperlink" Target="http://www.iiconference.org/iicai07/" TargetMode="External"/><Relationship Id="rId4" Type="http://schemas.openxmlformats.org/officeDocument/2006/relationships/hyperlink" Target="http://www.iiconference.org/iicai07/" TargetMode="External"/><Relationship Id="rId5" Type="http://schemas.openxmlformats.org/officeDocument/2006/relationships/hyperlink" Target="http://www.iiconference.org/iicai07/" TargetMode="External"/><Relationship Id="rId6" Type="http://schemas.openxmlformats.org/officeDocument/2006/relationships/hyperlink" Target="http://www.iiconference.org/iicai07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rd Indian International Conference 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tificial Intelligence 2007,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na, India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55616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n Rauc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IZ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5280" y="5445000"/>
            <a:ext cx="1513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53172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84360" y="692280"/>
            <a:ext cx="5112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iconference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iicai07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50A7-216C-4C93-BEAA-E1DA660E3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ICAI – 07,  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CAI-07 received around 800 paper sub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nd 40 different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nd 150 papers are accep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cceptance rate (around)  1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B3F7-3BDD-4DAA-8A58-E1417AE55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ICAI – 07,  s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7 sections, part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 Applications in Agriculture and Social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 Applications in Bioinformatics and Chem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 Applications to Environment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 Applications to Hydrologic and Hydraulic Engine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 Techniques for Human-Comput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-Based Reasoning, Knowledge Representation and Ont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ar Automata and its Applications in 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tion and Intelligence Based Networking and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tionary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F48C-3494-4E8E-AB68-648F7F4F92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ICAI – 07,  s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7 sections, pa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Relational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and Knowledge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Learning and Data M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Agent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Computing in Infrastructure Engineering and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Language-Independent Engine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informa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Web and Information Retrie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, Audio, Image and Video Processing using AI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AFE0-E3E8-4422-9308-C7A83296BA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0160" y="220680"/>
            <a:ext cx="8692920" cy="652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6E7F-4E7B-4B50-937A-9275768BE0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4520" y="333360"/>
            <a:ext cx="8548560" cy="641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2B00-DC19-46DF-941E-329D7C38FF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5640" y="422280"/>
            <a:ext cx="8263080" cy="619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WEB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106C-5730-4E70-9DFB-F554CB4C9E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40:07Z</dcterms:created>
  <dc:creator>Rauch</dc:creator>
  <dc:description/>
  <dc:language>en-US</dc:language>
  <cp:lastModifiedBy>NOBODY</cp:lastModifiedBy>
  <dcterms:modified xsi:type="dcterms:W3CDTF">2008-04-03T11:15:01Z</dcterms:modified>
  <cp:revision>993</cp:revision>
  <dc:subject/>
  <dc:title>Metody zpracování informací </dc:title>
</cp:coreProperties>
</file>