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4826-1985-4DA7-B4F3-F7225077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6C9F-2363-4755-A6D1-B9BE5F17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B327-445D-4DDE-B3CF-3FA1DB81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4465-9FA5-41E0-8166-DC56EEC8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4BC2-EFD6-4879-83D6-A1B6541D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FB23-956B-4A23-9FAD-83ABB6E0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D306-65FE-487D-8EA5-19B6E110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8D09-C26E-490E-9203-7CE061C6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1049-68AB-42A7-879E-112555E3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F51B-424A-4F63-B4B0-480EDF72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0A85-C3AF-4E7C-AE6F-67810CA1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5540-72A4-4B67-A743-92A285C2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AF65-0309-46D1-A5BD-E353F78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29B7-00E2-46D9-B58D-6A31E71A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35B6-8254-436A-B99E-F047F79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A21A-E9A8-4CC6-899F-EDB2378F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F602-BF8F-4B05-A66C-ADABE9BA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6649-ACCE-4181-85F7-90F8DF73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2C64-FD83-4634-B0F5-5907D9ED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AF43-6884-4FDE-AFBD-438B1849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AC70-DCFD-41FF-9FD9-AAB7A0E7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17DC-1F1B-4D82-A645-767A80D0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7246-0D11-4F3E-B1F3-F0B6144A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4AB3-07AE-430F-8C45-BC78901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700C-7423-44CA-98DA-8E31BD651F1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0A11-98EF-484A-B1F2-2A690423927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7d"/>
                </a:solidFill>
                <a:latin typeface="Arial"/>
              </a:rPr>
              <a:t>4ft-Miner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– </a:t>
            </a:r>
            <a:r>
              <a:rPr b="0" lang="cs-CZ" sz="3600" spc="-1" strike="noStrike">
                <a:solidFill>
                  <a:srgbClr val="00007d"/>
                </a:solidFill>
                <a:latin typeface="Arial"/>
              </a:rPr>
              <a:t>filtering out of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tering out rules with given categ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ter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cause of func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pen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ter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cause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luence depen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ter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cause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enden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ILT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723E-2DEA-4D0A-9270-748EE04C85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89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Filtering out rules with given categories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– 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8200" y="1628640"/>
            <a:ext cx="8066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ason – STULONG, structure of data – high frequency of Marital_Status(marr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2554200"/>
            <a:ext cx="6048360" cy="1882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20760" y="348624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85.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3486240"/>
            <a:ext cx="76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7.3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486240"/>
            <a:ext cx="76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6.7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0" y="3486240"/>
            <a:ext cx="76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7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4703760"/>
            <a:ext cx="8353440" cy="131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ILT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50EA-B4EE-4A7B-8EF7-17F45EE329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89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Filtering out rules with given categories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– 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0760" y="292104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85.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1781280"/>
            <a:ext cx="5832360" cy="2966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4941720"/>
            <a:ext cx="691200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u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sibility of filtering out all rules with Marital_status (marrie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 use Marital_status_without_marri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ILT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359E-F833-4210-AB98-6E6E0E091C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89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Filtering out rules with given categories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–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0760" y="292104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85.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915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n be useful not only because of structure of data – e.g. Districts in Barbora can be uninteresting (because of being industrial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n be involved in Filter button in 4ftResult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n be solved in the same spirit as below out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ILT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DD98-1968-4A2D-B0E4-99E999EEC5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89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Filtering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because of function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al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20760" y="292104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85.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364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amples of rules to be filter out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gnant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1, B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x(F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BMI(hig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ncer_Typ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1, Bas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x(F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ncer_Type(Prostate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1, Bas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x(M)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MI(low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rresponding Background Knowledge that must be stored in KnowledgeBa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gnant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x(F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ncer_Typ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x(F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ncer_Type(Prostate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x(M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nciples of sto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gnant  is a Boolean attribute, the additional ones are no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ored as functional depend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ILT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EE0F-2A3F-4EA4-832A-77991888B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89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Filterin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because of 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positive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influence dependence 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0760" y="292104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85.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364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ample of positive influence dependence:    Bier cosumption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amples of rules to be sure filter out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re Boolean attributes, may be omit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er cosumption (righ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MI(right cut)  for suitable p,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er cosumption (lef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MI(left cut)  for suitable p,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er cosumption (righ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MI(righ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for suitable p,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er cosumption (lef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MI(lef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for suitable p,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ILT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4013-E6AA-4102-8B42-BB7EF0F0A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89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Filterin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because of 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positive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influence dependence </a:t>
            </a:r>
            <a:r>
              <a:rPr b="0" lang="cs-CZ" sz="2800" spc="-1" strike="noStrike">
                <a:solidFill>
                  <a:srgbClr val="00007d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0760" y="292104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85.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364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ample of positive influence dependence:    Bier cosumption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amples of rules that may be filter out (requires additional study)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re Boolean attributes, may be omit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er cosumption (righ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MI(righ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er cosumption (lef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p, B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MI(left cut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ILT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4CDF-7002-45DA-A096-74AF25B5A2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89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Filtering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because of 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additional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dependenc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e</a:t>
            </a: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0760" y="292104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85.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364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nsidered additional dependencies: (needs detailed considerations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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Negative influence – e.g. :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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that means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f Education increases then BMI decreases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oth attributes ordinal or r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cs-CZ" sz="16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: Positive frequency – e.g. :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Bier consumptio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cs-CZ" sz="16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Obesi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that means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f Bier consumptio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creases then frequency of Obesity increas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he first attributes ordinal or rational and the second one Bool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cs-CZ" sz="16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6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Negative frequency – e.g.: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cs-CZ" sz="16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Obesi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that means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f Educatio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creases then frequency of Obesity decreas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he first attributes ordinal or rational and the second one Bool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ositive Boolean – e.g. :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Obesi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6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hat means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f Obesity tru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he frequency of Obesity increas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boh attributes Bool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6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egative Boolean – e.g.: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Sportsma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6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Obesity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hat means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f Sportsma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rue tthen the frequency of Obesity decreas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boh attributes Bool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ILT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36B0-1476-4FCD-A321-CB4B78EE0C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40:07Z</dcterms:created>
  <dc:creator>Rauch</dc:creator>
  <dc:description/>
  <dc:language>en-US</dc:language>
  <cp:lastModifiedBy>NOBODY</cp:lastModifiedBy>
  <dcterms:modified xsi:type="dcterms:W3CDTF">2008-03-30T15:41:24Z</dcterms:modified>
  <cp:revision>1096</cp:revision>
  <dc:subject/>
  <dc:title>Metody zpracování informací </dc:title>
</cp:coreProperties>
</file>