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CC5D-0E8F-4D15-A4C5-C13A827F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EA5F-42D5-4BBD-AC7F-CCD97B7C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296B-BB39-4D3A-B889-F93D80C2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7336-6957-4CEF-AAC7-4B97A1DC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0B2A-E662-4A6B-99DD-9C39929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FBC-E641-42F9-9D19-69300CF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0BC-FEF1-47FD-A6BC-7AA74492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C04-35C1-4E40-B8FC-7EC98BF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3491-FDB1-418F-B3C2-89C68D3C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9EC-737A-4DAE-A7AC-4240C6F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6F6-A6E2-45E6-A53A-32FE464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DD73-E7D9-47F2-901B-4E09572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58DB-9617-4230-899F-D82CDC2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0E73-CB66-4A56-9217-FD3058A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FB5-1FA3-4B17-B089-666395C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2590-495D-4728-9360-DC1E0CA7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1C31-CCD9-4355-910B-68B0F89C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1875-BEA3-4629-80F1-E98B8435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D367-3D1D-436F-8CB3-CE7F392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10BC-E342-4305-89A2-302032E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15CC-899E-469A-AE73-EAA69932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58FB-4ACE-409D-BD83-353B90E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21CA-67ED-4D87-B706-40D6E5C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8708-8872-44FD-AB80-5BB26262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10C-10AC-47DC-BB3A-60B001B28C9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B38-A550-4E36-99E5-A7C49DD26E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677960"/>
            <a:ext cx="7993080" cy="5135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ISp-Miner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Knowledge Base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Basic groups of attributes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2403360"/>
            <a:ext cx="3673440" cy="4492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ient‘s difficu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2992320"/>
            <a:ext cx="1152720" cy="4492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3772080"/>
            <a:ext cx="3024360" cy="44892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boratory ex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EC56-FA91-41F6-AFF1-39EF7DEFD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5075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mulating Local Analytical Questions – 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8425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of attributes in the ADAMEK da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information, Family history, Social data, Measures, EKG, Difficulties,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708280"/>
            <a:ext cx="72010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rong relations between Boolean characteristics of t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X and Y of attributes  are observed in the  ADAMEK dat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3716280"/>
            <a:ext cx="30956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AMEK: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942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7080" y="5719680"/>
            <a:ext cx="4535640" cy="119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AMEK: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ifficultie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4437000"/>
            <a:ext cx="7848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X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all interesting Boolean  characteristics of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Y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all interesting Boolean  characteristics of Y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AB16-F7C5-4D6E-A510-F3302877C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7-12-24T15:40:25Z</dcterms:modified>
  <cp:revision>987</cp:revision>
  <dc:subject/>
  <dc:title>Metody zpracování informací </dc:title>
</cp:coreProperties>
</file>