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6F3F8F-91BD-441C-922E-3F11E2422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3706A6-599D-4598-8882-FBBBB9626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6A597E-682E-4744-927D-6A6B5174D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5203E9-F0AB-40EF-BF3E-AD06D8808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89E05-9E5E-44F0-BF02-F4204EAA1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A30E8-E5DA-40ED-A85F-9ACC64232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8F2A1-47D8-4ED2-BD24-DC3373174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C5E0E-A517-489D-9C88-8ABFC7E46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008FF-E610-4601-99C9-0FDF66A59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B002E-F23D-45A8-BAB9-725521B74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536FA-A4C9-4BF0-92CA-2FEB5D7A4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024DA1-0CD8-485C-B3F0-41B8506D5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67CD2-131F-4691-A0F7-39534387B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5586B-F142-4C95-833E-F53A5ECE7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60467-376C-430F-ADDF-A24AFF0FF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7247C-148E-43C5-836D-495F02CE8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126AF-3E05-4CF9-8FC4-71B54C831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FCFC78-241A-45E1-A4DD-1268409B9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B35859-DC57-4131-A4FD-7C8D1EC8E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DBF3F5-2B17-4C75-B3A2-56F0A32CA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97A3FA-8499-4BF8-9CCE-FF8277490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45E14F-F52C-40C7-9127-F968581B9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EB72F5-6428-4964-B4D3-9051B7B23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D31472-4713-4325-AA20-54750D2E1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48259-1468-4C48-88AF-012CE5788AB7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9637F-47ED-43AA-9903-395A537C5430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106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Arial"/>
              </a:rPr>
              <a:t>LISp-Miner</a:t>
            </a:r>
            <a:r>
              <a:rPr b="0" lang="cs-CZ" sz="32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7d"/>
                </a:solidFill>
                <a:latin typeface="Arial"/>
              </a:rPr>
              <a:t>Knowledge Base</a:t>
            </a:r>
            <a:r>
              <a:rPr b="0" lang="cs-CZ" sz="32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7d"/>
                </a:solidFill>
                <a:latin typeface="Arial"/>
              </a:rPr>
              <a:t>– </a:t>
            </a:r>
            <a:br>
              <a:rPr sz="3200"/>
            </a:br>
            <a:r>
              <a:rPr b="0" lang="cs-CZ" sz="3200" spc="-1" strike="noStrike">
                <a:solidFill>
                  <a:srgbClr val="00007d"/>
                </a:solidFill>
                <a:latin typeface="Arial"/>
              </a:rPr>
              <a:t>mutual influence of attributes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635280" y="5445000"/>
            <a:ext cx="151308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611280" y="1884240"/>
            <a:ext cx="6964200" cy="40053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3635280" y="6132600"/>
            <a:ext cx="3673440" cy="609480"/>
          </a:xfr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If Education increases then Beer consumption decrea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796000" y="4005360"/>
            <a:ext cx="2954160" cy="609480"/>
          </a:xfr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If Age increases the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BMI increases t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WEBA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040EBF-2DEE-4CBD-8070-A7854AA61C7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1280" y="549360"/>
            <a:ext cx="8964720" cy="106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7d"/>
                </a:solidFill>
                <a:latin typeface="Arial"/>
              </a:rPr>
              <a:t>Formulating Local Analytical Questions – example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635280" y="5445000"/>
            <a:ext cx="151308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692360" y="1773360"/>
            <a:ext cx="4681440" cy="269244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250920" y="4791240"/>
            <a:ext cx="8424720" cy="36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Is the given item of background knowledge         observed in the ADAMEK data 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987640" y="4076640"/>
            <a:ext cx="360360" cy="360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419640" y="4076640"/>
            <a:ext cx="360360" cy="360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51280" y="4076640"/>
            <a:ext cx="360360" cy="360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076720" y="4076640"/>
            <a:ext cx="360360" cy="360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940360" y="4076640"/>
            <a:ext cx="360360" cy="360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419640" y="2421000"/>
            <a:ext cx="360360" cy="360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419640" y="2852640"/>
            <a:ext cx="360360" cy="360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716360" y="3213000"/>
            <a:ext cx="360360" cy="360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788000" y="4809960"/>
            <a:ext cx="360360" cy="360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9280" y="5421240"/>
            <a:ext cx="87854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Can be answered using the GUHA procedures implemented in the LISp-Miner system, see e.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Rauch J., Šimůnek M: GUHA Method and Granular Computing. In: Hu, X et al (ed.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roceedings of IEEE conference Granular Computing. 2005, pp. 630-635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WEBA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B62E8A-4CA9-4EBE-903F-8E90178F2FD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06:40:07Z</dcterms:created>
  <dc:creator>Rauch</dc:creator>
  <dc:description/>
  <dc:language>en-US</dc:language>
  <cp:lastModifiedBy>NOBODY</cp:lastModifiedBy>
  <dcterms:modified xsi:type="dcterms:W3CDTF">2007-12-24T15:38:21Z</dcterms:modified>
  <cp:revision>986</cp:revision>
  <dc:subject/>
  <dc:title>Metody zpracování informací </dc:title>
</cp:coreProperties>
</file>