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6DF10-6F1A-40B8-809B-F4B1AAE22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CED1A-A8B3-4510-81CB-726C7A53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69B1E-422A-4263-9933-7C67DD860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61E8C-F2E3-4087-90B3-E7A3DE44B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4D16-E2F2-4AE1-85E0-9BFEBD9B8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B8996-C9FE-4542-B8CA-FFC210D4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11AF-2BAC-4573-A5E7-655843F7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7253-0EF8-43C8-965A-887DFADF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F943-E984-42E0-AB94-FF69EAC0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221C-63A5-4A99-95E8-3C8EFEC0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5ECDF-0C85-456D-9F52-84793953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ABB8C-0B90-4833-A1A9-F1C98FB4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BF7CF-414B-4B59-982D-1D78E73E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EDC2-4455-46BE-BC3A-AA69073D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4889-6FB5-417B-B474-29C84592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DCF7-8BA6-46F6-BC8C-F25450068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5686-320F-4161-B50F-D6C6F7D82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06C42-ADB8-4B68-8225-338EC8DB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28CFD-2026-4623-BA8B-66915415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3B2F9-A465-4A92-8A16-9F60EC48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78579-50DB-47E4-A381-7453913F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BBEE5-BD16-4EE2-A05E-51679D06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26853-3121-42B3-B720-21F50166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E71D2-E210-48E8-84A8-BCC2E912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0DCA-869E-4F9B-BF33-D06C0EFB9261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5226-C61B-4FF4-B40A-C33E8A4B4EF0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s.uvm.edu/~icdm/" TargetMode="External"/><Relationship Id="rId3" Type="http://schemas.openxmlformats.org/officeDocument/2006/relationships/hyperlink" Target="http://www.cs.uvm.edu/~icdm/" TargetMode="External"/><Relationship Id="rId4" Type="http://schemas.openxmlformats.org/officeDocument/2006/relationships/hyperlink" Target="http://www.cs.uvm.edu/~icdm/" TargetMode="External"/><Relationship Id="rId5" Type="http://schemas.openxmlformats.org/officeDocument/2006/relationships/hyperlink" Target="http://www.cs.uvm.edu/~icdm/" TargetMode="External"/><Relationship Id="rId6" Type="http://schemas.openxmlformats.org/officeDocument/2006/relationships/hyperlink" Target="http://www.cs.uvm.edu/~icdm/" TargetMode="External"/><Relationship Id="rId7" Type="http://schemas.openxmlformats.org/officeDocument/2006/relationships/hyperlink" Target="http://www.cs.uvm.edu/~icdm/" TargetMode="External"/><Relationship Id="rId8" Type="http://schemas.openxmlformats.org/officeDocument/2006/relationships/hyperlink" Target="http://www.cs.uvm.edu/~icdm/" TargetMode="External"/><Relationship Id="rId9" Type="http://schemas.openxmlformats.org/officeDocument/2006/relationships/hyperlink" Target="http://www.cs.uvm.edu/~icdm/" TargetMode="External"/><Relationship Id="rId10" Type="http://schemas.openxmlformats.org/officeDocument/2006/relationships/hyperlink" Target="http://www.cs.uvm.edu/~icdm/" TargetMode="External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04840" y="115920"/>
            <a:ext cx="8327880" cy="6662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51280" y="189000"/>
            <a:ext cx="453708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www.</a:t>
            </a:r>
            <a:r>
              <a:rPr b="0" lang="cs-CZ" sz="1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cs</a:t>
            </a:r>
            <a:r>
              <a:rPr b="0" lang="cs-CZ" sz="1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1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uvm</a:t>
            </a:r>
            <a:r>
              <a:rPr b="0" lang="cs-CZ" sz="1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.</a:t>
            </a:r>
            <a:r>
              <a:rPr b="0" lang="cs-CZ" sz="1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edu</a:t>
            </a:r>
            <a:r>
              <a:rPr b="0" lang="cs-CZ" sz="1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/~</a:t>
            </a:r>
            <a:r>
              <a:rPr b="0" lang="cs-CZ" sz="18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icdm</a:t>
            </a:r>
            <a:r>
              <a:rPr b="0" lang="cs-CZ" sz="18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WEB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33C3E-10D8-4902-8963-559D35C4D47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8360" y="304920"/>
            <a:ext cx="8045280" cy="64371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79280" y="3718080"/>
            <a:ext cx="7705800" cy="1079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WEB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D8763-1422-4FAC-8111-9242DBDEFB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Analytical report from data mining</a:t>
            </a:r>
            <a:r>
              <a:rPr b="0" lang="cs-CZ" sz="4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9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 attempt to bridge the gap between data mining and the real wor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s answer to a given analytical qu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ranged according t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6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's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6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yzed probl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6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ckground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6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yz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WEB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391AB-D84C-47F7-9542-A44F5C653E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06:40:07Z</dcterms:created>
  <dc:creator>Rauch</dc:creator>
  <dc:description/>
  <dc:language>en-US</dc:language>
  <cp:lastModifiedBy>NOBODY</cp:lastModifiedBy>
  <dcterms:modified xsi:type="dcterms:W3CDTF">2008-01-01T21:45:21Z</dcterms:modified>
  <cp:revision>1036</cp:revision>
  <dc:subject/>
  <dc:title>Metody zpracování informací </dc:title>
</cp:coreProperties>
</file>