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E43DF-337D-4259-9F36-4F48D86D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42507-8A5D-4DE4-9C2C-25FBCC28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46BD-4444-49CD-AE88-672602A9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62EE0-2AE7-4434-B061-B7060185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4945-EF1F-41EF-877E-B848DD28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1DF4-60F2-46BC-80E8-8DFC864D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F0FB-7DCC-405B-875F-5EFE0A8B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5BF1-1D6F-4D4F-803F-BBD5FEB3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1333-106F-4571-AF9C-89A3BC7A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4B28-53E6-418B-9B3F-54F65C75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06EF-F181-4353-913C-222ACEB9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2CA09-03E9-4C94-968C-5AB2CF97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14D5-2950-459C-9B11-EE1AC581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7DAE-9DAB-44BB-88AC-5033D6B3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4991-8F9D-4A7B-8377-B909EACF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E08B-FF0F-466C-AD88-1BD182C2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A29C-4D0F-45FA-BB75-7D62EA2E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5C3E7-D4F1-4709-9E70-B64489F0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DDED3-452C-4E2F-8A89-68ACECA3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B24D3-DEBB-4291-96EA-75C8B301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53C43-9642-4F0B-82D3-27848D64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117DA-29BD-4296-AD76-A2D67A54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FF17A-3FDA-4ED3-BED2-C241F278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9731D-6D15-4D3A-8CF0-BD3B25D2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7457-E64C-4668-9639-CB3C750B342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4F70-6932-45FF-BB37-647E09401EC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45720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swering    ADAMEK: </a:t>
            </a:r>
            <a:r>
              <a:rPr b="0" lang="en-US" sz="3600" spc="-1" strike="noStrike">
                <a:solidFill>
                  <a:srgbClr val="00007d"/>
                </a:solidFill>
                <a:latin typeface="Monotype Corsiva"/>
              </a:rPr>
              <a:t>B</a:t>
            </a: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[EKG] </a:t>
            </a:r>
            <a:r>
              <a:rPr b="0" lang="en-US" sz="2800" spc="-1" strike="noStrike">
                <a:solidFill>
                  <a:srgbClr val="00007d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 baseline="30000">
                <a:solidFill>
                  <a:srgbClr val="00007d"/>
                </a:solidFill>
                <a:latin typeface="Arial"/>
              </a:rPr>
              <a:t>?</a:t>
            </a:r>
            <a:r>
              <a:rPr b="0" lang="en-US" sz="3600" spc="-1" strike="noStrike">
                <a:solidFill>
                  <a:srgbClr val="00007d"/>
                </a:solidFill>
                <a:latin typeface="Monotype Corsiva"/>
              </a:rPr>
              <a:t>B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[Difficultie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5445000"/>
            <a:ext cx="1513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332000" y="2568600"/>
          <a:ext cx="4751280" cy="36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568600"/>
                    <a:ext cx="475128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156360" y="1989000"/>
            <a:ext cx="2665440" cy="792360"/>
          </a:xfr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Definition of</a:t>
            </a:r>
            <a:r>
              <a:rPr b="0" lang="en-US" sz="2400" spc="-1" strike="noStrike">
                <a:solidFill>
                  <a:srgbClr val="00007d"/>
                </a:solidFill>
                <a:latin typeface="Monotype Corsiva"/>
              </a:rPr>
              <a:t> B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[EKG]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Monotype Corsiva"/>
              </a:rPr>
              <a:t>B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[Difficulties]</a:t>
            </a:r>
            <a:r>
              <a:rPr b="0" lang="cs-CZ" sz="18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7d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 baseline="30000">
                <a:solidFill>
                  <a:srgbClr val="00007d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773360"/>
            <a:ext cx="3313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HA procedure 4ft-Min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4797360"/>
            <a:ext cx="3384720" cy="1152720"/>
          </a:xfr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Searching rules </a:t>
            </a:r>
            <a:r>
              <a:rPr b="0" lang="en-US" sz="2000" spc="-1" strike="noStrike">
                <a:solidFill>
                  <a:srgbClr val="00007d"/>
                </a:solidFill>
                <a:latin typeface="Symbol"/>
                <a:ea typeface="Symbol"/>
              </a:rPr>
              <a:t>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 baseline="30000">
                <a:solidFill>
                  <a:srgbClr val="00007d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7d"/>
                </a:solidFill>
                <a:latin typeface="Symbol"/>
                <a:ea typeface="Symbol"/>
              </a:rPr>
              <a:t>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7d"/>
                </a:solidFill>
                <a:latin typeface="Monotype Corsiva"/>
              </a:rPr>
              <a:t>B</a:t>
            </a:r>
            <a:r>
              <a:rPr b="0" lang="en-US" sz="1800" spc="-1" strike="noStrike">
                <a:solidFill>
                  <a:srgbClr val="00007d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[EKG]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7d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Monotype Corsiva"/>
              </a:rPr>
              <a:t>B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[Difficulti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pplying 4ft-Min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DE3D3-6BE7-4712-904D-6BFB3F5974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6836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248616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8000" y="3618000"/>
            <a:ext cx="67690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elative frequency of Palpitation in the whole data:</a:t>
            </a:r>
            <a:r>
              <a:rPr b="0" lang="cs-CZ" sz="1600" spc="-1" strike="noStrike">
                <a:solidFill>
                  <a:srgbClr val="000000"/>
                </a:solidFill>
                <a:latin typeface="Arial Narrow"/>
              </a:rPr>
              <a:t>  0.1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24000" y="2268360"/>
          <a:ext cx="7993080" cy="1376280"/>
        </p:xfrm>
        <a:graphic>
          <a:graphicData uri="http://schemas.openxmlformats.org/drawingml/2006/table">
            <a:tbl>
              <a:tblPr/>
              <a:tblGrid>
                <a:gridCol w="4464000"/>
                <a:gridCol w="1584360"/>
                <a:gridCol w="1944720"/>
              </a:tblGrid>
              <a:tr h="459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M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pitation(y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pitation(y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(50;5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RS_interval(65;9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(50;5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RS_interval(65;9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79280" y="4260960"/>
            <a:ext cx="8640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elative frequency of Palpitation among patients satisfying Frequency(50;5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QRS_interval(65;9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:  0.5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4781520"/>
            <a:ext cx="878544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elative frequency of Palpitation among patients satisfying  Frequency(50;5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QRS_interval(65;9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is               294 per cent higher than in the whole ADAMEK data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708360" y="5805360"/>
                <a:ext cx="35276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9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84360" y="5977080"/>
            <a:ext cx="172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.94, 1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67280" y="4148280"/>
            <a:ext cx="504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54920" y="4724280"/>
            <a:ext cx="504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5661000"/>
            <a:ext cx="1441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olving   </a:t>
            </a:r>
            <a:r>
              <a:rPr b="0" lang="cs-CZ" sz="3600" spc="-1" strike="noStrike">
                <a:solidFill>
                  <a:srgbClr val="00007d"/>
                </a:solidFill>
                <a:latin typeface="Monotype Corsiva"/>
              </a:rPr>
              <a:t>B</a:t>
            </a:r>
            <a:r>
              <a:rPr b="0" lang="en-US" sz="3600" spc="-1" strike="noStrike">
                <a:solidFill>
                  <a:srgbClr val="00007d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EKG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]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7d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7d"/>
                </a:solidFill>
                <a:latin typeface="Arial"/>
              </a:rPr>
              <a:t>+</a:t>
            </a:r>
            <a:r>
              <a:rPr b="0" lang="cs-CZ" sz="2800" spc="-1" strike="noStrike" baseline="-25000">
                <a:solidFill>
                  <a:srgbClr val="00007d"/>
                </a:solidFill>
                <a:latin typeface="Arial"/>
              </a:rPr>
              <a:t>p, Base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7d"/>
                </a:solidFill>
                <a:latin typeface="Monotype Corsiva"/>
              </a:rPr>
              <a:t>B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[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Difficulties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] 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1700280"/>
            <a:ext cx="3168720" cy="368280"/>
          </a:xfrm>
          <a:prstGeom prst="rect">
            <a:avLst/>
          </a:prstGeom>
          <a:solidFill>
            <a:srgbClr val="0000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ocedure 4ft-Miner  - results det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pplying 4ft-Min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65CEE-6364-4DD0-A9E6-4452E6817A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457200"/>
            <a:ext cx="835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Relation of two Boolean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3106800"/>
          <a:ext cx="2736720" cy="1185840"/>
        </p:xfrm>
        <a:graphic>
          <a:graphicData uri="http://schemas.openxmlformats.org/drawingml/2006/table">
            <a:tbl>
              <a:tblPr/>
              <a:tblGrid>
                <a:gridCol w="1163520"/>
                <a:gridCol w="780840"/>
                <a:gridCol w="7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M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635280" y="5445000"/>
            <a:ext cx="1513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1080" y="307512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,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1557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et of suitable Boolean characteristics of EK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Difficulties] – set of suitable Boolean characteristics of Difficulti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437080" y="2997360"/>
                <a:ext cx="20890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p</m:t>
                    </m:r>
                    <m:r>
                      <m:t xml:space="preserve">∧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Ba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492360" y="3981600"/>
            <a:ext cx="1729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,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292720" y="3879720"/>
                <a:ext cx="37432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∧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Ba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635280" y="4616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5446800"/>
            <a:ext cx="3311280" cy="547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DAMEK: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B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K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?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Difficultie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5157720"/>
            <a:ext cx="3816360" cy="533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MEK: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B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EKG]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, B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Difficultie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5877000"/>
            <a:ext cx="3816360" cy="533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MEK: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B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EKG]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onotype Corsiva"/>
              </a:rPr>
              <a:t>+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, B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Difficultie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851280" y="537372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5662440"/>
            <a:ext cx="504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pplying 4ft-Min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26FC6-BCD2-4F8B-96D6-01BB87B35F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35280" y="5445000"/>
            <a:ext cx="1513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1700280"/>
            <a:ext cx="8642160" cy="40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ies: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Boolean attributes - Palpitation, Swellings, Cough, Claudication, Sync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Difficulties]: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-5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lpitation, Swellings, Cough, Claudication, Synco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junctions of length 1 – 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) :      Palpitation,  Swellings,  Cough,  Claudication,  Sync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 :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lpitatio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wellings,   …,    Claudicatio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ynco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) :       Palpitation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welling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ugh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udication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ync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Difficulties]: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-5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lpitation, Swellings, Cough, Claudication, Sync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junc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length 1 – 5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fining set  </a:t>
            </a:r>
            <a:r>
              <a:rPr b="0" lang="en-US" sz="3600" spc="-1" strike="noStrike">
                <a:solidFill>
                  <a:srgbClr val="00007d"/>
                </a:solidFill>
                <a:latin typeface="Monotype Corsiva"/>
              </a:rPr>
              <a:t>B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[Difficultie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2060640"/>
            <a:ext cx="122364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2781360"/>
            <a:ext cx="230508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5734080"/>
            <a:ext cx="230508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pplying 4ft-Min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05A04-1A59-4EE5-9790-DD0FC6BAE1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Defining set  </a:t>
            </a:r>
            <a:r>
              <a:rPr b="0" lang="cs-CZ" sz="3600" spc="-1" strike="noStrike">
                <a:solidFill>
                  <a:srgbClr val="00007d"/>
                </a:solidFill>
                <a:latin typeface="Monotype Corsiva"/>
              </a:rPr>
              <a:t>B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[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EKG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]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35280" y="5445000"/>
            <a:ext cx="1513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628640"/>
            <a:ext cx="84247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G:   7 Boolean attributes Defects + 3 categorial attributes Interval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cts: Convection failure, Tawar right, …, Abnormal morph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al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Q_int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RS_int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2997360"/>
            <a:ext cx="93528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3933720"/>
            <a:ext cx="93528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2060640"/>
            <a:ext cx="57600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2060640"/>
            <a:ext cx="100800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2060640"/>
            <a:ext cx="100800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95640" y="3884760"/>
            <a:ext cx="1852560" cy="593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239920" y="4751280"/>
            <a:ext cx="1806480" cy="549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216160" y="5521320"/>
            <a:ext cx="1830240" cy="571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176720" y="399420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4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;5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5;11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&gt; 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05440" y="4821120"/>
            <a:ext cx="47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1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25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;27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5589720"/>
            <a:ext cx="37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6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;1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&gt;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pplying 4ft-Min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80FD8-604A-4F2D-9A99-D899EEA916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35280" y="5445000"/>
            <a:ext cx="1513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43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Defects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Intervals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Defects]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Interval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Defects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: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-7)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ction failur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war righ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…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bnormal morp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Intervals]: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-2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Frequency], 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Q_inter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QRS_inter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Intervals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Frequency]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Q_inter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_inter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Defining set  </a:t>
            </a:r>
            <a:r>
              <a:rPr b="0" lang="cs-CZ" sz="3600" spc="-1" strike="noStrike">
                <a:solidFill>
                  <a:srgbClr val="00007d"/>
                </a:solidFill>
                <a:latin typeface="Monotype Corsiva"/>
              </a:rPr>
              <a:t>B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[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EKG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]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pplying 4ft-Min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5B8C1-6565-4743-849B-00B3D16AD7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Defining set  </a:t>
            </a:r>
            <a:r>
              <a:rPr b="0" lang="cs-CZ" sz="3600" spc="-1" strike="noStrike">
                <a:solidFill>
                  <a:srgbClr val="00007d"/>
                </a:solidFill>
                <a:latin typeface="Monotype Corsiva"/>
              </a:rPr>
              <a:t>B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[Frequency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5445000"/>
            <a:ext cx="1513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2852640"/>
            <a:ext cx="8642520" cy="33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Frequency] =  Frequency (int), 1 - 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(“intervals of intervals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quenc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4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quency (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4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5;5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 = Frequenc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5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quency (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4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5;5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;5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= Frequency (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5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quency (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4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5;5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;5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5;6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 =Frequency (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6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quenc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5;5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quency (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5;5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;5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 = Frequenc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5;5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quency (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5;5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;5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5;6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= Frequency (45;6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quency (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5;5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;5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5;6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;6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Frequency (45;6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227640" y="1844640"/>
            <a:ext cx="2737080" cy="901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79280" y="2131920"/>
            <a:ext cx="63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quency – 15 categories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4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5;5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5;11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&gt;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5877000"/>
            <a:ext cx="165744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20720" y="6019920"/>
            <a:ext cx="4103640" cy="3373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2 Boolean attributes  Frequency (r; 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3860640"/>
            <a:ext cx="16570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86200" y="4148280"/>
            <a:ext cx="16570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35280" y="4437000"/>
            <a:ext cx="165744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27640" y="4724280"/>
            <a:ext cx="16570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5013360"/>
            <a:ext cx="16570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5300640"/>
            <a:ext cx="165744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51280" y="5589720"/>
            <a:ext cx="165744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3211560"/>
            <a:ext cx="59767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1484280"/>
            <a:ext cx="216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[Frequency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1987560"/>
            <a:ext cx="17287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pplying 4ft-Min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B7AA-BD47-447B-9608-B91EC781B8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642160" cy="29368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olving   </a:t>
            </a:r>
            <a:r>
              <a:rPr b="0" lang="cs-CZ" sz="3600" spc="-1" strike="noStrike">
                <a:solidFill>
                  <a:srgbClr val="00007d"/>
                </a:solidFill>
                <a:latin typeface="Monotype Corsiva"/>
              </a:rPr>
              <a:t>B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[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EKG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]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7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7d"/>
                </a:solidFill>
                <a:latin typeface="Arial"/>
              </a:rPr>
              <a:t>p, Base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7d"/>
                </a:solidFill>
                <a:latin typeface="Monotype Corsiva"/>
              </a:rPr>
              <a:t>B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[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Difficulties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98560" y="5218200"/>
            <a:ext cx="12240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259092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fficul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2720" y="1736640"/>
            <a:ext cx="1584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,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203640" y="1639800"/>
                <a:ext cx="20890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p</m:t>
                    </m:r>
                    <m:r>
                      <m:t xml:space="preserve">∧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Ba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3706920" y="5254560"/>
            <a:ext cx="1584360" cy="440640"/>
          </a:xfrm>
          <a:prstGeom prst="rect">
            <a:avLst/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.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5,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1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248616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2421000"/>
            <a:ext cx="1871640" cy="368280"/>
          </a:xfrm>
          <a:prstGeom prst="rect">
            <a:avLst/>
          </a:prstGeom>
          <a:solidFill>
            <a:srgbClr val="0000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ocedure 4ft-Min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6093000"/>
            <a:ext cx="71276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: 1 rule, involved in the solution of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Difficulties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pplying 4ft-Min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9101B-64CD-45B0-970F-7576D6925E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0920" y="3208320"/>
            <a:ext cx="8642160" cy="2957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836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98560" y="5578560"/>
            <a:ext cx="12240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08360" y="5445000"/>
            <a:ext cx="1584360" cy="440640"/>
          </a:xfrm>
          <a:prstGeom prst="rect">
            <a:avLst/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1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2776680"/>
            <a:ext cx="1871640" cy="368280"/>
          </a:xfrm>
          <a:prstGeom prst="rect">
            <a:avLst/>
          </a:prstGeom>
          <a:solidFill>
            <a:srgbClr val="0000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ocedure 4ft-Min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6292800"/>
            <a:ext cx="2663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: 120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1771560"/>
            <a:ext cx="172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,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870280" y="1701720"/>
                <a:ext cx="34304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∧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Ba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olving   </a:t>
            </a:r>
            <a:r>
              <a:rPr b="0" lang="cs-CZ" sz="3600" spc="-1" strike="noStrike">
                <a:solidFill>
                  <a:srgbClr val="00007d"/>
                </a:solidFill>
                <a:latin typeface="Monotype Corsiva"/>
              </a:rPr>
              <a:t>B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[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EKG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]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7d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7d"/>
                </a:solidFill>
                <a:latin typeface="Arial"/>
              </a:rPr>
              <a:t>+</a:t>
            </a:r>
            <a:r>
              <a:rPr b="0" lang="cs-CZ" sz="2800" spc="-1" strike="noStrike" baseline="-25000">
                <a:solidFill>
                  <a:srgbClr val="00007d"/>
                </a:solidFill>
                <a:latin typeface="Arial"/>
              </a:rPr>
              <a:t>p, Base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7d"/>
                </a:solidFill>
                <a:latin typeface="Monotype Corsiva"/>
              </a:rPr>
              <a:t>B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[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Difficulties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]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5297400"/>
            <a:ext cx="259092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fficul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pplying 4ft-Min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E5A45-0896-45DB-9CF5-EC796DE382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836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248616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353440" cy="38894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5280" y="2421000"/>
            <a:ext cx="3600360" cy="368280"/>
          </a:xfrm>
          <a:prstGeom prst="rect">
            <a:avLst/>
          </a:prstGeom>
          <a:solidFill>
            <a:srgbClr val="0000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ocedure 4ft-Miner  - results overvie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9280" y="4941360"/>
            <a:ext cx="1152720" cy="57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1771560"/>
            <a:ext cx="172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,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870280" y="1701720"/>
                <a:ext cx="34304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∧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Ba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olving   </a:t>
            </a:r>
            <a:r>
              <a:rPr b="0" lang="cs-CZ" sz="3600" spc="-1" strike="noStrike">
                <a:solidFill>
                  <a:srgbClr val="00007d"/>
                </a:solidFill>
                <a:latin typeface="Monotype Corsiva"/>
              </a:rPr>
              <a:t>B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[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EKG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]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7d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7d"/>
                </a:solidFill>
                <a:latin typeface="Arial"/>
              </a:rPr>
              <a:t>+</a:t>
            </a:r>
            <a:r>
              <a:rPr b="0" lang="cs-CZ" sz="2800" spc="-1" strike="noStrike" baseline="-25000">
                <a:solidFill>
                  <a:srgbClr val="00007d"/>
                </a:solidFill>
                <a:latin typeface="Arial"/>
              </a:rPr>
              <a:t>p, Base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7d"/>
                </a:solidFill>
                <a:latin typeface="Monotype Corsiva"/>
              </a:rPr>
              <a:t>B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[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Difficulties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]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pplying 4ft-Min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7F8F2-716D-4EB3-9BAE-A8B2EE741E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6:40:07Z</dcterms:created>
  <dc:creator>Rauch</dc:creator>
  <dc:description/>
  <dc:language>en-US</dc:language>
  <cp:lastModifiedBy>NOBODY</cp:lastModifiedBy>
  <dcterms:modified xsi:type="dcterms:W3CDTF">2008-03-30T14:56:03Z</dcterms:modified>
  <cp:revision>988</cp:revision>
  <dc:subject/>
  <dc:title>Metody zpracování informací </dc:title>
</cp:coreProperties>
</file>