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0D7E-3F18-42D4-BF40-573E7381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DEB4-F5A6-4928-9E0A-0E498589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169E-4509-415E-8D8F-10402AA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790D-7C0D-4DA4-9100-E324B80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6FD-FACA-4BD1-AAB6-9873B28E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4FCA-6783-44A3-8978-E8A53AC7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7F0B-6B03-44BB-A263-CDC3A2B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47F-0FBF-44D1-A4CF-2B03DD7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B229-AA34-4533-B9E5-85297BC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50A-E8F0-4473-BF80-7AE3F78C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7760-63AC-4C3C-9D1F-81EC135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2485-CC1D-4E1A-8419-BB1B77D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883-8C59-49F0-93B4-0C884B1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8B67-693B-442D-A414-DA2E15D1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E736-F54C-4351-BA56-512660D6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CF9-A265-4FAE-913B-B8293B41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7CA9-D53B-4A0C-8B1D-A7D7F194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55C5-9A86-4B34-959E-3502DABC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C4B5-2B00-4640-BF3F-3C8E0522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58BC-8AC0-41C1-98C6-3A1B8A3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215F-EC32-42C6-83E2-C0F0F2C3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5DD4-95E8-4FB1-AB2C-6C16BF0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91B2-BA65-4C43-91C9-3296623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2F1-E16A-4E44-9CC4-CE0DB22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88C-E14A-4080-8C5E-8ACF4D13771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4423-D03B-4A41-84DF-CFF7701DEA3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ketch of analytical report for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7d"/>
                </a:solidFill>
                <a:latin typeface="Symbol"/>
                <a:ea typeface="Symbol"/>
              </a:rPr>
              <a:t></a:t>
            </a:r>
            <a:r>
              <a:rPr b="0" lang="cs-CZ" sz="2800" spc="-1" strike="noStrike" baseline="30000">
                <a:solidFill>
                  <a:srgbClr val="00007d"/>
                </a:solidFill>
                <a:latin typeface="Arial"/>
              </a:rPr>
              <a:t>?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ifficultie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4861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496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Introductio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formal formulation of analytical question. Description of structure of the repor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Analys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view of basic statistics of used attribute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Answering</a:t>
            </a:r>
            <a:r>
              <a:rPr b="1" lang="cs-CZ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cs-CZ" sz="16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ficul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nation of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EKG],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Difficulties]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sults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s of all found patterns, suitable statistics on particular attribute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curren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ions of "second order" like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pattern concern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g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. Particular patterns for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ctured list of patterns with quantifier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. Particular patterns for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ctured list of patterns with quantifier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.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uggestions of addition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alytical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8F79-C182-46AF-8702-AED2AC4DC0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1-09T08:06:21Z</dcterms:modified>
  <cp:revision>987</cp:revision>
  <dc:subject/>
  <dc:title>Metody zpracování informací </dc:title>
</cp:coreProperties>
</file>